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423D-8283-4820-8553-E662692D0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listen to the conversation, pay special attention to teacher decisions and write notes down about why they make those deci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note taking sheet? Note boo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E01F-741D-4476-B1CD-E668DA260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part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01A5-123A-4E63-97D1-80178B828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4158-CD31-45D0-81BE-6679C6577F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l them the design tem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times 100 r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F5BB-AA01-402D-952D-CBD30F949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CC63-F8CE-409A-906E-492364DF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DA7-9C6A-427F-9469-04E857FD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A08-ADDF-4133-8B8C-D9AEA857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B6F-9F05-4F1F-A0CD-2A2E659C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AB3D-A96D-4EA3-92B8-80EEC52B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0F22-6BF8-43F9-B9DF-B21E11F2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B0C6-9AC7-4EFC-A2BA-D42C6336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11E3-9140-42F4-BFCE-E0896877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9DF1-9D51-4E78-A4B2-836B5EE3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1CCF-AE4E-429A-B0AA-70098FBE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9337-EB1C-44CC-9EE7-D2BA9F46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49A-7E79-4E9A-B71D-7418FD2B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87C0-7B59-4E16-B052-850EEC41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99CA-6196-4406-8460-7CCB000D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EC5D-9DBD-41AF-B726-A62D0955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073B-B8FB-4FE0-8871-BAEE98B1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E7FE-8ED3-4345-8B3F-4E77318B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E98A6-E766-4E0E-BF9F-637257A8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8E72D-9997-4A97-A659-02ADB089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10D31-6EE1-49B5-9FBA-6484F029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218D6-8F86-45B2-A56B-BEED760A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81561-F114-4FF9-AC59-E7C85B83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03D-B754-4170-88BD-73FE551F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65F17-7576-4B09-98CC-2FFA7E9A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92F01-FE8A-4CC1-BE17-DF1D7A61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934F0-FAF0-44AD-AC1F-1DDA5EDB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EFB20-AC68-48D2-96AA-22973B7A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D4BAB-D3C1-40E0-9A3C-DF905071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92062-2804-4E0E-AB2F-D625CD7E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7E1E0-2160-48C5-9B96-2F61ACF8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C24FC-11C9-4F4C-ADB3-B8B31946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98227-0C01-4B0E-8654-B0150D38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1CBF5-B975-4C80-B1A0-D16C909F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59B-4135-4157-8FBE-F7D2F503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D9FE5-82D0-46C0-B4F1-416FC80F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5EECD-16C4-4D87-B3EB-D2AE97F0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B526E-9AB9-49F1-82FE-20443477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BDC23-25AC-4646-B130-86612B63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DA3A1-FA23-4E45-B354-07C97ABE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53296-1063-4727-9E27-F46A7D7F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DB638-B923-425A-97F4-8008B122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4DE35-29F0-4492-A3F8-E7FA4EB2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09D91-0764-4A43-A2CD-C706E1ED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8EFC8-FBAE-4E82-85FE-819FE675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BF7-B8F1-46DD-863B-16ED7008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FF447-6C11-4FE2-BF38-BD2AD32F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8703A-4683-42A2-AC76-1FE20907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0A83D-7B9D-43CB-9CDB-578B34D0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C6A30-6FA5-4C46-9668-7A5855EA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512A2-C3A3-46E5-A68B-7252F7F8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D9B17-A569-4D37-9AA5-E5643589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EDA2F-B96A-4D90-A04F-8A827DBF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CA0C9-660B-476C-BD9F-DF071B0A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BB942-5CBE-4F14-A781-2DDF6D8A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7249A-7B0C-4C0D-8A20-CE29CE3E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F92-9807-46C7-B59F-CE80E4B3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6A601-A1F8-40F4-B541-6550A203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D1C1B-594C-4FAA-915C-FBCC298F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55B33-5A3F-4F1F-87AD-5CE64B2F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2281E-172D-4550-B991-68093DBB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FE71F-964C-4D53-8A0F-9FB6282E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CC2DA-1CEF-4627-9B3B-B914448E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0CC8A-8843-4FF5-9FB6-04085680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AA9DA-823B-4E42-ACB3-4EAE51E9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6D47C-9E9B-4601-B379-BF5BF5FA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CDB9A-6BFC-4371-B120-90A20135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D9B-B123-43D0-A09F-748F4FC0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07D1D-C298-4006-82CC-262171B9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1900F-A04B-4FE1-AB58-436BA8DA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67F9A-4F83-465E-833E-3D0F2DA8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405E1-2BDD-450E-BB82-68435BF7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7BD0D-668C-4E7B-A0C0-665EAC17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C5E0F-2957-4FB2-ABE9-419EBEF2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778D1-6787-41BB-BB83-315C2B23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EF50C-50E3-4989-986F-6AFC53F0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2A7DF-6A29-4077-AA4D-816CA15D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5E3E3-3980-4B22-BB27-C80D1E92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3AC-D231-44FE-B273-A242ADFB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1AF46-744B-4DED-AFB7-17DA9D63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15A3F-F2D7-420B-9879-F0B3621C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BC3DE-D33D-4BA9-9674-7F984808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85433-10B1-482C-9E3D-6E0E655D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55582-F658-461E-A4C0-0C308A73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54E-03CC-440F-A2B1-5232A670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cfbf8">
              <a:alpha val="33000"/>
            </a:srgbClr>
          </a:solidFill>
          <a:ln cap="rnd" w="3240">
            <a:solidFill>
              <a:srgbClr val="ccc6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6ea"/>
            </a:solidFill>
            <a:miter/>
          </a:ln>
          <a:effectLst>
            <a:outerShdw dist="12600" dir="5400000" blurRad="0" rotWithShape="0">
              <a:srgbClr val="ada99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6E08-A634-4E79-AA47-1DD1EFEE8244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6e6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cfbf8">
              <a:alpha val="33000"/>
            </a:srgbClr>
          </a:solidFill>
          <a:ln cap="rnd" w="3240">
            <a:solidFill>
              <a:srgbClr val="ccc6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6ea"/>
            </a:solidFill>
            <a:miter/>
          </a:ln>
          <a:effectLst>
            <a:outerShdw dist="12600" dir="5400000" blurRad="0" rotWithShape="0">
              <a:srgbClr val="ada99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6e6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a3e1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3E2F-A316-4BCF-A863-FEB4327C238C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6e6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a3e1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0007-D92E-47BA-8F2C-80F073E7BF3E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C364-FAFF-4061-AA15-CBABB6C18F4D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6e6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8DD8-4BC5-4FCC-8ECF-4059B4DC2462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B803-4758-46C8-9659-229D1570ADED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5ddc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9e5dc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95625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aa9c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E190-FC3F-4C65-9D57-3071903201EF}" type="slidenum">
              <a:rPr b="0" lang="en-US" sz="1200" spc="-1" strike="noStrike">
                <a:solidFill>
                  <a:srgbClr val="b0aa9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curriculum.prairiepride.org/Curriculum/MapPage.aspx?overviewID=1406&amp;OverviewTitle=8th%20grade%20language%20arts&amp;Designers=wanderson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ccsdnewteacher2009-10.wikispaces.com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New Teacher Learning 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3636"/>
                </a:solidFill>
                <a:latin typeface="Gill Sans MT"/>
              </a:rPr>
              <a:t>12/7/09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4" descr="C:\Users\ychen\AppData\Local\Microsoft\Windows\Temporary Internet Files\Content.IE5\60M1IPZ6\MPj04433150000[1].jpg"/>
          <p:cNvPicPr/>
          <p:nvPr/>
        </p:nvPicPr>
        <p:blipFill>
          <a:blip r:embed="rId1"/>
          <a:stretch/>
        </p:blipFill>
        <p:spPr>
          <a:xfrm>
            <a:off x="2666880" y="2362320"/>
            <a:ext cx="5034240" cy="334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Research Background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dependently read and highlight (10-12 minute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e a summary using the Write Tool 101 strategy (15 minute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ready to share (Will sample by  calling  group #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Not by default, but by design…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82480" y="1847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Picture 2" descr="C:\Users\ychen\AppData\Local\Microsoft\Windows\Temporary Internet Files\Content.IE5\8DYO9J6P\MPj04393320000[1].jpg"/>
          <p:cNvPicPr/>
          <p:nvPr/>
        </p:nvPicPr>
        <p:blipFill>
          <a:blip r:embed="rId1"/>
          <a:stretch/>
        </p:blipFill>
        <p:spPr>
          <a:xfrm>
            <a:off x="1447920" y="1905120"/>
            <a:ext cx="6400800" cy="41148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5"/>
          <p:cNvSpPr/>
          <p:nvPr/>
        </p:nvSpPr>
        <p:spPr>
          <a:xfrm>
            <a:off x="1752480" y="2590920"/>
            <a:ext cx="556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Gill Sans MT"/>
              </a:rPr>
              <a:t>Double entry journal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Gill Sans MT"/>
              </a:rPr>
              <a:t>What did she decide to d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Gill Sans MT"/>
              </a:rPr>
              <a:t>What was she think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6a6363"/>
                </a:solidFill>
                <a:latin typeface="Arial"/>
              </a:rPr>
              <a:t>Understanding By Design:</a:t>
            </a:r>
            <a:br>
              <a:rPr sz="4900"/>
            </a:br>
            <a:r>
              <a:rPr b="0" lang="en-US" sz="4900" spc="-1" strike="noStrike">
                <a:solidFill>
                  <a:srgbClr val="6a6363"/>
                </a:solidFill>
                <a:latin typeface="Arial"/>
              </a:rPr>
              <a:t>Interview Wendy</a:t>
            </a:r>
            <a:endParaRPr b="0" lang="en-US" sz="49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37720" y="2819160"/>
            <a:ext cx="403884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ink/Wh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648320" y="2819160"/>
            <a:ext cx="403848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Decision/Do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aptured in the maps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Gill Sans MT"/>
                <a:hlinkClick r:id="rId1"/>
              </a:rPr>
              <a:t>Wendy’s Ma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Table Collaboration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ssign rol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#1: Evidence of essential understanding/ques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#2: Evidence of high level assessment/lear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#3: Evidence of scaffolding toward final perform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#4: Evidence of active cognitive engagement among stud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Table Collaboration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are and contrast Wendy’s lesson and your research summ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art on paper using a graphic organiz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ready to sha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(All member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Guided Practice</a:t>
            </a:r>
            <a:br>
              <a:rPr sz="4300"/>
            </a:br>
            <a:r>
              <a:rPr b="0" lang="en-US" sz="3600" spc="-1" strike="noStrike">
                <a:solidFill>
                  <a:srgbClr val="6a6363"/>
                </a:solidFill>
                <a:latin typeface="Gill Sans MT"/>
              </a:rPr>
              <a:t>Keeping the model lesson and </a:t>
            </a:r>
            <a:br>
              <a:rPr sz="3600"/>
            </a:br>
            <a:r>
              <a:rPr b="0" lang="en-US" sz="3600" spc="-1" strike="noStrike">
                <a:solidFill>
                  <a:srgbClr val="6a6363"/>
                </a:solidFill>
                <a:latin typeface="Gill Sans MT"/>
              </a:rPr>
              <a:t>research in mind…</a:t>
            </a:r>
            <a:endParaRPr b="0" lang="en-US" sz="36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2514600"/>
            <a:ext cx="7499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o to Iowa Core –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entury Lear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ministrators coach one or two group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pen up individual map and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rite at least 1-2 essential ques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rite at least 2-5 expanded 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ke a 10 minutes break. Demo starts at 2:2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Live Demo – Wendy Anderson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lesson template to reco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ke a moment to write notes 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vidence of communicating learning targets to stud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vidence of interactive strategies including CF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 students and teach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 cont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are with a partn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C:\Users\ychen\AppData\Local\Microsoft\Windows\Temporary Internet Files\Content.IE5\WRY5J6MP\MPj04090090000[1].jpg"/>
          <p:cNvPicPr/>
          <p:nvPr/>
        </p:nvPicPr>
        <p:blipFill>
          <a:blip r:embed="rId1"/>
          <a:stretch/>
        </p:blipFill>
        <p:spPr>
          <a:xfrm>
            <a:off x="-190440" y="-2513160"/>
            <a:ext cx="9334440" cy="9371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Gill Sans MT"/>
              </a:rPr>
              <a:t>        </a:t>
            </a:r>
            <a:r>
              <a:rPr b="0" lang="en-US" sz="4300" spc="-1" strike="noStrike">
                <a:solidFill>
                  <a:srgbClr val="ffff00"/>
                </a:solidFill>
                <a:latin typeface="Gill Sans MT"/>
              </a:rPr>
              <a:t>Line of Learning 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09120" y="152352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ill Sans MT"/>
              </a:rPr>
              <a:t>How might the students act differently if the interactive strategies are taken out of the lesson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274680"/>
            <a:ext cx="76960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a6363"/>
                </a:solidFill>
                <a:latin typeface="Gill Sans MT"/>
              </a:rPr>
              <a:t>Guided Practice – 20 minutes</a:t>
            </a:r>
            <a:br>
              <a:rPr sz="3500"/>
            </a:b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Principals and administrators will coach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90720" y="2133360"/>
            <a:ext cx="7696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der Wendy’s lesson and the ICC mod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velop a lesson plan using the same templ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ork individuall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Welcome!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t lunch and settle 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view your notes/line of learning from past sessi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ing by design/Backward desig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ear learning targ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t computer ready  for map and tal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now how to access Wik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6a6363"/>
                </a:solidFill>
                <a:latin typeface="Gill Sans MT"/>
              </a:rPr>
              <a:t>             </a:t>
            </a:r>
            <a:r>
              <a:rPr b="0" lang="en-US" sz="3500" spc="-1" strike="noStrike">
                <a:solidFill>
                  <a:srgbClr val="6a6363"/>
                </a:solidFill>
                <a:latin typeface="Gill Sans MT"/>
              </a:rPr>
              <a:t>Peer Coaching</a:t>
            </a:r>
            <a:br>
              <a:rPr sz="3500"/>
            </a:br>
            <a:br>
              <a:rPr sz="3500"/>
            </a:br>
            <a:r>
              <a:rPr b="0" lang="en-US" sz="3200" spc="-1" strike="noStrike">
                <a:solidFill>
                  <a:srgbClr val="6a6363"/>
                </a:solidFill>
                <a:latin typeface="Gill Sans MT"/>
              </a:rPr>
              <a:t>Read each other’s lesson first, then provid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specific feedback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is aligned with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the LO of today’s session</a:t>
            </a:r>
            <a:endParaRPr b="0" lang="en-US" sz="32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600" y="2743200"/>
            <a:ext cx="6108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wo star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One stretch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Curriculum Planning Tool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the too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 you pl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you tea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ile you collabor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you conference with your principal or ment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Reciprocity - Expectations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next workshop (January 15)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pdate your map as you plan, revise or dialogue, applying UB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ild scaffolded lessons toward the big idea and skills on the ma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ild interactions and CFU throughout the less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Reciprocity - Support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ork on the map and lesson with your PP and Ment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ference with your principal regarding  your map and less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ki –what interactive strategies (including CFU), did you use to keep students cognitively engaged and challenged -  minimum one entry or respons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1219320"/>
            <a:ext cx="74977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Line of Learning </a:t>
            </a:r>
            <a:br>
              <a:rPr sz="4300"/>
            </a:b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and Feedback</a:t>
            </a:r>
            <a:br>
              <a:rPr sz="4300"/>
            </a:b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on </a:t>
            </a:r>
            <a:r>
              <a:rPr b="0" lang="en-US" sz="4300" spc="-1" strike="noStrike" u="sng">
                <a:solidFill>
                  <a:srgbClr val="cc9900"/>
                </a:solidFill>
                <a:uFillTx/>
                <a:latin typeface="Gill Sans MT"/>
                <a:hlinkClick r:id="rId1"/>
              </a:rPr>
              <a:t>New Teacher Wiki</a:t>
            </a:r>
            <a:br>
              <a:rPr sz="4300"/>
            </a:b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Next New Teacher Workshop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anuary 1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cus: Think Aloud and all previous lear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id year assess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acher self-ass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cipal observation, coaching and feedb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a6363"/>
                </a:solidFill>
                <a:latin typeface="Gill Sans MT"/>
              </a:rPr>
              <a:t>Assessment focuses – </a:t>
            </a:r>
            <a:r>
              <a:rPr b="0" lang="en-US" sz="3600" spc="-1" strike="noStrike">
                <a:solidFill>
                  <a:srgbClr val="6a6363"/>
                </a:solidFill>
                <a:latin typeface="Gill Sans MT"/>
              </a:rPr>
              <a:t>implementation of the following…</a:t>
            </a:r>
            <a:endParaRPr b="0" lang="en-US" sz="36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pply backward design in unit plann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vidence of scaffolding in maps (expanded skills) and less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ink learning objectives to map content and skill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sign EDI less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mbed interactive strategies to cognitively engage students in learn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lanned CFU (before, during and after each lesson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What was helpful?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xamples of scaffolding in maps and less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ear and explicit model of UBD and L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rofessional level discussion with peers on unit/less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teract with others across the district to see how ideas are use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lan with job-alike peers on real units/less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eing real lessons and maps helps to put all pieces together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a6363"/>
                </a:solidFill>
                <a:latin typeface="Gill Sans MT"/>
              </a:rPr>
              <a:t>Impact on your teaching and planning</a:t>
            </a:r>
            <a:endParaRPr b="0" lang="en-US" sz="39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ok toward my culminating outcome before I write my lesson objecti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nk LO and skills in my ma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corporate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plann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FU’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tivities are important in my lessons but skills in maps are about what students will b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ble t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kis – I see how they can be used in my classro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How to support you?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 my lessons and give me targeted feedbac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inue to have new teacher workshop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a6363"/>
                </a:solidFill>
                <a:latin typeface="Gill Sans MT"/>
              </a:rPr>
              <a:t>We asked you to work with your principal on…</a:t>
            </a:r>
            <a:endParaRPr b="0" lang="en-US" sz="39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y next workshop - Be prepared to bring a unit (map) and a lesson using the unit/lesson design templ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UBD/EDI concept reflected in plan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Expanded skill statements in map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lear learning objectives/targets in lesson pl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Planned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CFU before, during and after instr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Debriefing Partners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one you don’t work wit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one you don’t know we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d partner 1 and 2, including administrato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y with partner 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e to front if you are still searc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a6363"/>
                </a:solidFill>
                <a:latin typeface="Arial"/>
              </a:rPr>
              <a:t>MAP and TALK </a:t>
            </a:r>
            <a:r>
              <a:rPr b="0" lang="en-US" sz="4000" spc="-1" strike="noStrike">
                <a:solidFill>
                  <a:srgbClr val="6a6363"/>
                </a:solidFill>
                <a:latin typeface="Arial"/>
              </a:rPr>
              <a:t>(with partner 2)</a:t>
            </a:r>
            <a:endParaRPr b="0" lang="en-US" sz="40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did you apply Understanding by Design in your map? (Share one essential question with your partne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did you build scaffolding (Expanded Skills) in your ma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ready to sha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our partner’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amples or insigh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6363"/>
                </a:solidFill>
                <a:latin typeface="Gill Sans MT"/>
              </a:rPr>
              <a:t>Objectives of the Day</a:t>
            </a:r>
            <a:endParaRPr b="0" lang="en-US" sz="4300" spc="-1" strike="noStrike">
              <a:solidFill>
                <a:srgbClr val="6a6363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ticulat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rationale of UB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Link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esson objectives with skills in map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esig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units and lessons aligned with UBD, clear targets, engagement strategeis and scaffold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mb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effective interactive strategies in lessons/maps (Include Planned CFU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1:20:39Z</dcterms:created>
  <dc:creator>ychen</dc:creator>
  <dc:description/>
  <dc:language>en-US</dc:language>
  <cp:lastModifiedBy>ychen</cp:lastModifiedBy>
  <dcterms:modified xsi:type="dcterms:W3CDTF">2009-12-04T23:35:51Z</dcterms:modified>
  <cp:revision>71</cp:revision>
  <dc:subject/>
  <dc:title>New Teacher Learning Series</dc:title>
</cp:coreProperties>
</file>